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8CB6-108E-4F08-A45F-D85D524B8D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F6EC-35C1-417E-95C2-45BAF54692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50A-AE09-4ACB-8316-C3069500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37D-ABFB-40E1-B85B-58D138DE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811-F659-41C9-A4EE-F09188E8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491-D166-4598-B8C1-56BAB01E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0F54-535F-4561-A1E6-0E0914B8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40DB-7232-4319-BC9C-E3FAC150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7800-19F0-4D13-90FE-F1BE4288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8ED8-475E-4718-B571-6A7AC956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36E6-18FD-44AB-8BA4-12FCC47B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98EB-2565-4B9E-B3D3-FB9B4C85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69D7-4E7E-436B-9661-F9132099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AE5-B209-4810-ABC9-FE58C537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AE78-1A87-4FC2-A61B-3DA4A275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21E5-5C3E-4EEF-8E54-15851EA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0610-1F99-42B9-854A-B7B3B0BC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E140-E339-466F-B3B7-BC2425A1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66E0-2F5C-42D9-A35F-9229DF9F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026-9BC5-4FED-AF0B-37E095B5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44D-2165-48A5-924F-A9C03378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0C3-D0A2-4E05-9DBF-42B14E71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D60-60BB-49D3-A7BF-2D1CDAA1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41A-9543-4448-B6D1-83E2CE0F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4EB-EEE7-4CDD-9E03-D6BC2B27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D56-2E88-47BE-8217-D3D0DD45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A9B8-FC69-4C7F-BC55-6867FFBDEB7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A0E9-88A6-4595-9859-F97F659916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717560"/>
            <a:ext cx="7921440" cy="11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ПРОФИЛАКТИКА ЖЕСТОКОГО ОБРАЩЕНИЕ С ДЕТЬМИ В СЕМЬ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1360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одительское собр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i05"/>
          <p:cNvPicPr/>
          <p:nvPr/>
        </p:nvPicPr>
        <p:blipFill>
          <a:blip r:embed="rId1"/>
          <a:stretch/>
        </p:blipFill>
        <p:spPr>
          <a:xfrm>
            <a:off x="5711760" y="3425760"/>
            <a:ext cx="3432240" cy="34322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539640" y="549360"/>
            <a:ext cx="81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НИЦИПАЛЬНОЕ БЮДЖЕТНОЕ ОБЩЕОБРАЗОВАТЕЛЬНОЕ УЧРЕЖДЕНИЕ «СРЕДНЯЯ ОБЩЕОБРАЗОВАТЕЛЬНАЯ ШКОЛА № 104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39640" y="4365720"/>
            <a:ext cx="381636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дагог-психолог Елисее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Юлия Юр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СЕКСУАЛЬНОЕ насилие над деть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ски, ощупывание, целование, прикосновение к интимным местам реб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матривание половых органов реб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уждение прикасаться к чужим половым орган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рнография (принуждение к рассматриванию проноснимк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турбация в присутствии реб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це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насил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удительная проститу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i09"/>
          <p:cNvPicPr/>
          <p:nvPr/>
        </p:nvPicPr>
        <p:blipFill>
          <a:blip r:embed="rId1"/>
          <a:stretch/>
        </p:blipFill>
        <p:spPr>
          <a:xfrm>
            <a:off x="7236000" y="1628640"/>
            <a:ext cx="1511280" cy="120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J:\Жест обращение\i26.jpeg"/>
          <p:cNvPicPr/>
          <p:nvPr/>
        </p:nvPicPr>
        <p:blipFill>
          <a:blip r:embed="rId2"/>
          <a:stretch/>
        </p:blipFill>
        <p:spPr>
          <a:xfrm rot="809400">
            <a:off x="6803640" y="4581000"/>
            <a:ext cx="1658880" cy="16592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68360" y="404640"/>
            <a:ext cx="6781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ды насил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15328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изнаки перенесенного сексуального насил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Ласки, ощупывание, целование, прикосновение к интимным местам ребенк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Рассматривание половых органов ребенк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ринуждение прикасаться к чужим половым органам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орнография (принуждение к рассматриванию проноснимков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Мастурбация в присутствии ребенк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Инцест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Изнасиловани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ринудительная проституц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50920" y="260280"/>
            <a:ext cx="504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ды насил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42480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ды насил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125360"/>
            <a:ext cx="81532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cc66"/>
                </a:solidFill>
                <a:latin typeface="Times New Roman"/>
              </a:rPr>
              <a:t>Последствия перенесенного сексуального насил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Ребенок обнаруживает странные, слишком сложные или необычайные сексуальные познания или действия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Может сексуально приставать к детям и взрослы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Может жаловаться на зуд, боль в области гениталий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Может заболеть болезнями, передающимися половым путе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Девочка может забеременеть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5903640" cy="518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ПСИХОЛОГИЧЕСКОЕ НАСИЛИ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эмоционально дурное обращение с детьми, умышленное унижение чести и достоинства ребенка, моральные угрозы, оскорбления, шантаж и т.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Признаки психологического наси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талкивание ребенка родителями, неприятие его, отсутствие любви и привязанности к ребен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нижение достоинства, угрозы наси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бое отношение, постоянная жестокая критика ребенка, оскорбление с использованием ненормативной лекс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бличное унижение, формирование у него чувства стыда и вины за проявление естественных эмоций (страх, плач, гнев и т.д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ершение в присутствии ребенка насилия по отношению к супругу или другим дет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чинение боли домашним животным с целью запугать реб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21"/>
          <p:cNvPicPr/>
          <p:nvPr/>
        </p:nvPicPr>
        <p:blipFill>
          <a:blip r:embed="rId1"/>
          <a:stretch/>
        </p:blipFill>
        <p:spPr>
          <a:xfrm rot="986400">
            <a:off x="7019640" y="476280"/>
            <a:ext cx="1763640" cy="14079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324000" y="333360"/>
            <a:ext cx="4248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ды насил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8" descr="vio"/>
          <p:cNvPicPr/>
          <p:nvPr/>
        </p:nvPicPr>
        <p:blipFill>
          <a:blip r:embed="rId2"/>
          <a:stretch/>
        </p:blipFill>
        <p:spPr>
          <a:xfrm>
            <a:off x="6300720" y="2205000"/>
            <a:ext cx="2678040" cy="2174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Papa-krichit-na-doch"/>
          <p:cNvPicPr/>
          <p:nvPr/>
        </p:nvPicPr>
        <p:blipFill>
          <a:blip r:embed="rId3"/>
          <a:stretch/>
        </p:blipFill>
        <p:spPr>
          <a:xfrm>
            <a:off x="6227640" y="4724280"/>
            <a:ext cx="27003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Отсутствие психологической поддержки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со стороны родителей приводит к различным нарушения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8000" y="1856880"/>
            <a:ext cx="88567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J:\Жест обращение\i6.jpeg"/>
          <p:cNvPicPr/>
          <p:nvPr/>
        </p:nvPicPr>
        <p:blipFill>
          <a:blip r:embed="rId1"/>
          <a:stretch/>
        </p:blipFill>
        <p:spPr>
          <a:xfrm rot="21103800">
            <a:off x="539640" y="1773360"/>
            <a:ext cx="3141720" cy="20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infoportalrf001-47"/>
          <p:cNvPicPr/>
          <p:nvPr/>
        </p:nvPicPr>
        <p:blipFill>
          <a:blip r:embed="rId2"/>
          <a:stretch/>
        </p:blipFill>
        <p:spPr>
          <a:xfrm>
            <a:off x="4859280" y="1700280"/>
            <a:ext cx="4033800" cy="3022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0032-013-"/>
          <p:cNvPicPr/>
          <p:nvPr/>
        </p:nvPicPr>
        <p:blipFill>
          <a:blip r:embed="rId3"/>
          <a:stretch/>
        </p:blipFill>
        <p:spPr>
          <a:xfrm>
            <a:off x="1692360" y="3789360"/>
            <a:ext cx="3024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26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Пренебрежение основными потребностями ребенка</a:t>
            </a: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 -</a:t>
            </a:r>
            <a:r>
              <a:rPr b="0" i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тоянно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ериодическое неисполнени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телям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цами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х заменяющими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и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язанност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о удовлетворению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требносте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бенк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азвити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боте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щ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ве, медицинско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мощ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зопасности, приводяще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худшению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ояния здоровья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бенка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ушению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го развития ил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ению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вмы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2781360"/>
            <a:ext cx="633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Признаки пренебрежения нуждами ребен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ная заброшенность ребенка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утствие правильного пит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утствие необходимой одеж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утствие защиты, обучения, медицинского обеспечения, ухода за ребен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педикулез, дистрофи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санитарное состояние жил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i12"/>
          <p:cNvPicPr/>
          <p:nvPr/>
        </p:nvPicPr>
        <p:blipFill>
          <a:blip r:embed="rId1"/>
          <a:stretch/>
        </p:blipFill>
        <p:spPr>
          <a:xfrm rot="655800">
            <a:off x="6876720" y="2923920"/>
            <a:ext cx="2054160" cy="14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Fome pelo mundo - fome na africa - africano faminto - 10-02-07"/>
          <p:cNvPicPr/>
          <p:nvPr/>
        </p:nvPicPr>
        <p:blipFill>
          <a:blip r:embed="rId2"/>
          <a:stretch/>
        </p:blipFill>
        <p:spPr>
          <a:xfrm rot="469200">
            <a:off x="6587640" y="4781520"/>
            <a:ext cx="25560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33000"/>
            <a:ext cx="815328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Взрослым очень важно понимать, насколько пагубно насилие в семье влияет на развитие ребенка, его настоящее и будущее социальное становлени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" descr="J:\Жест обращение\i28.jpeg"/>
          <p:cNvPicPr/>
          <p:nvPr/>
        </p:nvPicPr>
        <p:blipFill>
          <a:blip r:embed="rId1"/>
          <a:stretch/>
        </p:blipFill>
        <p:spPr>
          <a:xfrm>
            <a:off x="2843280" y="4941720"/>
            <a:ext cx="1347840" cy="943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J:\Жест обращение\i07.jpeg"/>
          <p:cNvPicPr/>
          <p:nvPr/>
        </p:nvPicPr>
        <p:blipFill>
          <a:blip r:embed="rId2"/>
          <a:stretch/>
        </p:blipFill>
        <p:spPr>
          <a:xfrm rot="20599800">
            <a:off x="1123560" y="4425480"/>
            <a:ext cx="1373040" cy="1866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J:\Жест обращение\7.jpeg"/>
          <p:cNvPicPr/>
          <p:nvPr/>
        </p:nvPicPr>
        <p:blipFill>
          <a:blip r:embed="rId3"/>
          <a:stretch/>
        </p:blipFill>
        <p:spPr>
          <a:xfrm>
            <a:off x="4643280" y="4221000"/>
            <a:ext cx="2135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 все времена и во всех культурах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ДЕТСТВ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требует защиты в первую очередь в плане предупреждения жестокого обращ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енно жестокое обращение и насилие в семье – прямая причина того, что ребенок остается без семь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стокое обращение с ребенком заставляет его убегать из дома, попрошайничать на улицах, вести жизнь бездомного бродя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стокое обращение – причина того, что множество детей не учатся, болеют, умирают детьми, становятся инвалидами и никогда не чувствуют себя счастлив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J:\Родит собрание по суициду\i36.jpeg"/>
          <p:cNvPicPr/>
          <p:nvPr/>
        </p:nvPicPr>
        <p:blipFill>
          <a:blip r:embed="rId1"/>
          <a:stretch/>
        </p:blipFill>
        <p:spPr>
          <a:xfrm rot="640200">
            <a:off x="6084720" y="5071680"/>
            <a:ext cx="2643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15328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 из первых и наиважнейших прав ребенка –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раво на семь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 Именно семейное окружение позволяет ребенку сформироваться как личность и стать подготовленным к жизни в обществ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9280" y="4005000"/>
            <a:ext cx="815364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Родител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естественный защитник ребенка. И если он выступает в роли обидчика, то  государственная власть имеет право действовать вместо родителей с целью защиты ребенка и его пра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J:\Родит собрание по суициду\i27.jpeg"/>
          <p:cNvPicPr/>
          <p:nvPr/>
        </p:nvPicPr>
        <p:blipFill>
          <a:blip r:embed="rId1"/>
          <a:stretch/>
        </p:blipFill>
        <p:spPr>
          <a:xfrm>
            <a:off x="7365960" y="1857240"/>
            <a:ext cx="1568520" cy="1595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src"/>
          <p:cNvPicPr/>
          <p:nvPr/>
        </p:nvPicPr>
        <p:blipFill>
          <a:blip r:embed="rId2"/>
          <a:stretch/>
        </p:blipFill>
        <p:spPr>
          <a:xfrm>
            <a:off x="4572000" y="2205000"/>
            <a:ext cx="2592360" cy="1409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1122progr_chten"/>
          <p:cNvPicPr/>
          <p:nvPr/>
        </p:nvPicPr>
        <p:blipFill>
          <a:blip r:embed="rId3"/>
          <a:stretch/>
        </p:blipFill>
        <p:spPr>
          <a:xfrm>
            <a:off x="1908000" y="2060640"/>
            <a:ext cx="28134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Самый тяжелый труд - воспитание человек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4" descr="225"/>
          <p:cNvPicPr/>
          <p:nvPr/>
        </p:nvPicPr>
        <p:blipFill>
          <a:blip r:embed="rId1"/>
          <a:stretch/>
        </p:blipFill>
        <p:spPr>
          <a:xfrm>
            <a:off x="2627280" y="3645000"/>
            <a:ext cx="3738600" cy="2303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konflikti_sposobi_resheniya-1068x710"/>
          <p:cNvPicPr/>
          <p:nvPr/>
        </p:nvPicPr>
        <p:blipFill>
          <a:blip r:embed="rId2"/>
          <a:stretch/>
        </p:blipFill>
        <p:spPr>
          <a:xfrm>
            <a:off x="5219640" y="1773360"/>
            <a:ext cx="3400560" cy="2303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воспитание-детей-960x659"/>
          <p:cNvPicPr/>
          <p:nvPr/>
        </p:nvPicPr>
        <p:blipFill>
          <a:blip r:embed="rId3"/>
          <a:stretch/>
        </p:blipFill>
        <p:spPr>
          <a:xfrm>
            <a:off x="395280" y="1773360"/>
            <a:ext cx="338472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69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Дети одинаковы, точнее, равны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ни равны и одинаковы - перед добрым и худым. Дети поначалу похожи на промокашки: впитывают в себя все, что грамотно или безобразно написано родителями. 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Альберт Лиханов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happy-children"/>
          <p:cNvPicPr/>
          <p:nvPr/>
        </p:nvPicPr>
        <p:blipFill>
          <a:blip r:embed="rId1"/>
          <a:stretch/>
        </p:blipFill>
        <p:spPr>
          <a:xfrm>
            <a:off x="250920" y="3429000"/>
            <a:ext cx="3457440" cy="273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даунтаун"/>
          <p:cNvPicPr/>
          <p:nvPr/>
        </p:nvPicPr>
        <p:blipFill>
          <a:blip r:embed="rId2"/>
          <a:stretch/>
        </p:blipFill>
        <p:spPr>
          <a:xfrm>
            <a:off x="5219640" y="4335480"/>
            <a:ext cx="36003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1197000"/>
            <a:ext cx="6664320" cy="31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Самый тяжелый труд - воспитание челове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2" descr="J:\Жест обращение\i02.jpeg"/>
          <p:cNvPicPr/>
          <p:nvPr/>
        </p:nvPicPr>
        <p:blipFill>
          <a:blip r:embed="rId1"/>
          <a:stretch/>
        </p:blipFill>
        <p:spPr>
          <a:xfrm>
            <a:off x="468360" y="1700280"/>
            <a:ext cx="2663640" cy="1942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J:\Родит собрание по суициду\i35.jpeg"/>
          <p:cNvPicPr/>
          <p:nvPr/>
        </p:nvPicPr>
        <p:blipFill>
          <a:blip r:embed="rId2"/>
          <a:stretch/>
        </p:blipFill>
        <p:spPr>
          <a:xfrm>
            <a:off x="5724360" y="1484280"/>
            <a:ext cx="2762280" cy="1873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22"/>
          <p:cNvPicPr/>
          <p:nvPr/>
        </p:nvPicPr>
        <p:blipFill>
          <a:blip r:embed="rId3"/>
          <a:stretch/>
        </p:blipFill>
        <p:spPr>
          <a:xfrm>
            <a:off x="6804000" y="3933720"/>
            <a:ext cx="1974960" cy="1481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d1kthglphl4"/>
          <p:cNvPicPr/>
          <p:nvPr/>
        </p:nvPicPr>
        <p:blipFill>
          <a:blip r:embed="rId4"/>
          <a:stretch/>
        </p:blipFill>
        <p:spPr>
          <a:xfrm>
            <a:off x="2843280" y="2997360"/>
            <a:ext cx="3187800" cy="237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Dad-and-girl"/>
          <p:cNvPicPr/>
          <p:nvPr/>
        </p:nvPicPr>
        <p:blipFill>
          <a:blip r:embed="rId5"/>
          <a:stretch/>
        </p:blipFill>
        <p:spPr>
          <a:xfrm>
            <a:off x="539640" y="3716280"/>
            <a:ext cx="20876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54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6" descr="0017-026-"/>
          <p:cNvPicPr/>
          <p:nvPr/>
        </p:nvPicPr>
        <p:blipFill>
          <a:blip r:embed="rId1"/>
          <a:stretch/>
        </p:blipFill>
        <p:spPr>
          <a:xfrm>
            <a:off x="250920" y="3500280"/>
            <a:ext cx="4195800" cy="3146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new"/>
          <p:cNvPicPr/>
          <p:nvPr/>
        </p:nvPicPr>
        <p:blipFill>
          <a:blip r:embed="rId2"/>
          <a:stretch/>
        </p:blipFill>
        <p:spPr>
          <a:xfrm>
            <a:off x="2771640" y="333360"/>
            <a:ext cx="6000840" cy="3419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395280" y="1413000"/>
            <a:ext cx="24494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я сем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28760"/>
            <a:ext cx="8153280" cy="42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силие в семье – проблема скрытая, «спрятанная».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ети не говорят об этом, т.к. не могут высказать, не понимают ненормальности явления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зрослые не заинтересованы в разглашении такой информаци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5" descr="i15"/>
          <p:cNvPicPr/>
          <p:nvPr/>
        </p:nvPicPr>
        <p:blipFill>
          <a:blip r:embed="rId1"/>
          <a:stretch/>
        </p:blipFill>
        <p:spPr>
          <a:xfrm rot="178200">
            <a:off x="5940000" y="4723920"/>
            <a:ext cx="262728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i2"/>
          <p:cNvPicPr/>
          <p:nvPr/>
        </p:nvPicPr>
        <p:blipFill>
          <a:blip r:embed="rId2"/>
          <a:stretch/>
        </p:blipFill>
        <p:spPr>
          <a:xfrm rot="629400">
            <a:off x="420480" y="4792680"/>
            <a:ext cx="31366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153280" cy="47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зрослые не задумываются о том, что угрозы, грубость, унижение ребенка, шлепки и подзатыльники могут квалифицироваться как насилие.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аже если в результате такого обращения ребенок получает травму, то родители расценивают ее как несчастный случа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5" descr="i7"/>
          <p:cNvPicPr/>
          <p:nvPr/>
        </p:nvPicPr>
        <p:blipFill>
          <a:blip r:embed="rId1"/>
          <a:stretch/>
        </p:blipFill>
        <p:spPr>
          <a:xfrm rot="855000">
            <a:off x="6527520" y="4731840"/>
            <a:ext cx="26496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468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бенок находится в постоянном напряжении, не зная, случится ли сейчас что-нибудь, или в этот раз пронесет.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ети из таких семей тревожны, неуверенны в себе или наоборот, ведут себя нервно, агрессивн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i27"/>
          <p:cNvPicPr/>
          <p:nvPr/>
        </p:nvPicPr>
        <p:blipFill>
          <a:blip r:embed="rId1"/>
          <a:stretch/>
        </p:blipFill>
        <p:spPr>
          <a:xfrm rot="1314600">
            <a:off x="6916320" y="4954680"/>
            <a:ext cx="2195640" cy="1752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i08"/>
          <p:cNvPicPr/>
          <p:nvPr/>
        </p:nvPicPr>
        <p:blipFill>
          <a:blip r:embed="rId2"/>
          <a:stretch/>
        </p:blipFill>
        <p:spPr>
          <a:xfrm rot="20041800">
            <a:off x="178920" y="188640"/>
            <a:ext cx="20178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678168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ды насил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39640" y="1484280"/>
            <a:ext cx="7088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Times New Roman"/>
              </a:rPr>
              <a:t>ФИЗИЧЕСКОЕ НАСИЛ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Избиение, истязани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Сотрясени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Удары, пощечины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рижига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Удушени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Утоплени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Дача алкоголя, наркотиков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Заточение с лишением еды и пить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Лишение теплой одежды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i17"/>
          <p:cNvPicPr/>
          <p:nvPr/>
        </p:nvPicPr>
        <p:blipFill>
          <a:blip r:embed="rId1"/>
          <a:stretch/>
        </p:blipFill>
        <p:spPr>
          <a:xfrm rot="318000">
            <a:off x="6767280" y="836640"/>
            <a:ext cx="2376360" cy="1467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i6"/>
          <p:cNvPicPr/>
          <p:nvPr/>
        </p:nvPicPr>
        <p:blipFill>
          <a:blip r:embed="rId2"/>
          <a:stretch/>
        </p:blipFill>
        <p:spPr>
          <a:xfrm rot="454200">
            <a:off x="6732360" y="2708280"/>
            <a:ext cx="2208240" cy="1471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smack (1)"/>
          <p:cNvPicPr/>
          <p:nvPr/>
        </p:nvPicPr>
        <p:blipFill>
          <a:blip r:embed="rId3"/>
          <a:stretch/>
        </p:blipFill>
        <p:spPr>
          <a:xfrm>
            <a:off x="6732720" y="4724280"/>
            <a:ext cx="241128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5689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66"/>
                </a:solidFill>
                <a:latin typeface="Times New Roman"/>
              </a:rPr>
              <a:t>Признаки физического насил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аны и синяки (в разных частях тела, непонятного происхождения, имеют особую форм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жоги (чаще расположены на стопах, кистях, груди, голове. Ожоги от горячих предметов и  сигарет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кусы (отпечатки зубов по контуру зубной арки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индром тряски ребенка (если сильно трясти за плечи ребенка взад и вперед, то может произойти кровоизлияние в мозг или ушиб мозга. Наблюдается кровоизлияние в глаза, тошнота, рвота, потеря сознания, синяки на плечах в форме отпечатков пальцев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50920" y="260280"/>
            <a:ext cx="678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ды насил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maxresdefault"/>
          <p:cNvPicPr/>
          <p:nvPr/>
        </p:nvPicPr>
        <p:blipFill>
          <a:blip r:embed="rId1"/>
          <a:stretch/>
        </p:blipFill>
        <p:spPr>
          <a:xfrm>
            <a:off x="6227640" y="981000"/>
            <a:ext cx="2592360" cy="180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2373240"/>
          <p:cNvPicPr/>
          <p:nvPr/>
        </p:nvPicPr>
        <p:blipFill>
          <a:blip r:embed="rId2"/>
          <a:stretch/>
        </p:blipFill>
        <p:spPr>
          <a:xfrm>
            <a:off x="5867280" y="2852640"/>
            <a:ext cx="2711520" cy="1806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1373199552_74664574"/>
          <p:cNvPicPr/>
          <p:nvPr/>
        </p:nvPicPr>
        <p:blipFill>
          <a:blip r:embed="rId3"/>
          <a:stretch/>
        </p:blipFill>
        <p:spPr>
          <a:xfrm>
            <a:off x="6300720" y="4724280"/>
            <a:ext cx="2592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67752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Последствия физического насил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иняки, ушибы, трав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нурез, энкопоре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гресс в развит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аз от учеб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язлив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зкий уровень самооц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грессивное пове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прессии, беспокой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i27"/>
          <p:cNvPicPr/>
          <p:nvPr/>
        </p:nvPicPr>
        <p:blipFill>
          <a:blip r:embed="rId1"/>
          <a:stretch/>
        </p:blipFill>
        <p:spPr>
          <a:xfrm rot="615600">
            <a:off x="6011640" y="2707920"/>
            <a:ext cx="2606400" cy="1886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250920" y="260280"/>
            <a:ext cx="678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ды насил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2:48:20Z</dcterms:created>
  <dc:creator>Захарова</dc:creator>
  <dc:description/>
  <dc:language>en-US</dc:language>
  <cp:lastModifiedBy>СОШ 104</cp:lastModifiedBy>
  <dcterms:modified xsi:type="dcterms:W3CDTF">2022-06-22T05:29:51Z</dcterms:modified>
  <cp:revision>43</cp:revision>
  <dc:subject/>
  <dc:title>ЖЕСТОКОЕ ОБРАЩЕНИЕ С ДЕТЬМИ В СЕМЬЕ</dc:title>
</cp:coreProperties>
</file>